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891-289F-4A5E-883A-E2A18E64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247-DEA3-4F37-A8BF-A74F8CB9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C53-5E52-46C9-A9BA-B9392887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CD4-CB9E-4474-853E-9CC78F99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C46B-986E-4EB2-9974-7AE5A205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7C5-6845-43EA-91E0-CC2FCB1C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6622-4446-4282-BDE3-67BBE1C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ADB-3727-435E-AC8B-0CE77FBA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109D-5029-4F1D-811D-AB76E561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5D99-A489-4023-B3D8-5D0A3E6D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008-984E-401A-87C1-61398F3D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9A6-866E-44A2-A76F-B81FF92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435E-BA61-4CEB-96C0-9A3BD36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BC1E-55BF-4406-B51E-FD32CED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CF96-6FDF-4C42-8ECB-ADB3EA91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261E-A7A8-4EFC-A1ED-4857917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24E-4188-472C-A41E-B4168AAF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074B-0E5D-4475-8FA9-D84D9119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7221-B20E-4D9E-98EC-AFB9EFB0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9068-2663-49AE-9357-0B9EF84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F23D-2794-41A2-880A-E7CCB6F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4F06-80E4-4E6C-B3A8-919450FF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703-9E85-4FD3-B6AA-59BF02C3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049D-0B4C-4167-BA3E-94A96F16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DA8F-D318-4D72-91B9-7059B5E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8036-336C-4140-9C00-009BE17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2D00-ED14-455E-99D2-976A1E8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AED2-C652-4297-AAD7-EE4A4FA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9174-A790-4766-B72F-294CFA62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06BE-2F13-468E-9109-22B18C5C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D0EC-8F5A-4843-988D-589A797B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B81F-49AA-4861-AC80-A8C9ADC0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CF4B-AA2C-4A20-B31C-14E94F3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3A3-5B14-4634-846D-5B16DC9C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5439-706C-47C5-96DA-94D813EA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7724-0E1F-49E6-A0BC-00DF9FDB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42C7-14E5-44F0-BB88-4818406E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B4D7-0103-437A-98DB-DA9AA727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0455-1EB2-4E0B-8353-B2E7A42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EBFC-5377-41F7-BE20-58B6440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9DAA-A666-4BA4-92C2-3B1C318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580A-5CFB-4B06-B4FA-49AFAC70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77AB-D3AC-45C0-A35D-0A1F9CB5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6DC5-84C5-42A8-BA0A-D06EF9A0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342-D845-4A87-8D0A-7EB1D3A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F1CF-ACD4-4FD0-8191-299D0BEB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C02B-DF71-49FA-A887-831150A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6D4E-5A32-448F-B9CE-DF03EF97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F192-03B2-4378-8312-8FD86BA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4D8F-354D-4359-9C4D-77F4DC9E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3292E-C916-4B78-9C25-BA89B94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B555-B06E-438D-82A9-521353A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A0CB4-387C-4BE4-AC94-C60FED7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DC82-29B5-4912-B771-DFC6BFE3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A5FF-A129-4FB4-9E9C-D00F735B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991-A510-48D3-9F40-49363FEC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DAD9-44F7-497B-A24A-B6FCD26F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67A-8ADA-4882-83AD-1FA741B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F88-22B7-4B98-ABE9-17849FD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72F-0F78-4F89-A201-4065E48B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831-3673-4524-8611-AC262656C0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348-F4FE-48D5-87C9-6E565F3A3A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57A-752E-404A-8E18-3CC5223BFE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F297-31CE-4CCB-9F48-6DB01BFD7A3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41E-07DB-4F8A-B95F-B4EA52B97C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ОБЩАЮЩИЙ УРОК ПО ТЕМЕ «СОЮЗ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362480"/>
            <a:ext cx="7772400" cy="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пустить нельзя, пиши слитно. Есл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жно опустить, пиши раздельно. Союз зато = 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(же) сегодня придет. Он придёт на то(же) место. Он так(же) поступил в музыкальную школу. Надо сделать подарок бабушке что(бы) порадовать её. Мы долго думали что(же) подарить бабушке. Спрячься за(то) дерево. Не очень ловок за(то) говорли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 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171468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ременные (указывают на врем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чинные (указывают на причину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Целевые (указывают на цель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словные (указывают на усло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упительные (указывают на уступку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равнительные (указывают на сравнен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Следственные (указывают на следствие)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Изъяснительные (указывают на то, о чем говорится в предложени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дчинительные сою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171468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тавьте запятые, поставьте вопросы к зависимым предложениям, укажите вид союзов, составьте сх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мщики подвязали колокольч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вон не привлек внимания сторожей. 2.По синим волнам океана лишь звёзды блеснут в небесах корабль одинокий несётся несётся на всех парусах.3. Все возы потому что на них лежали тюки с шерстью казались очень высокими и пухл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личайте союзы и местоимения, дайте разъясне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4080" y="1428840"/>
            <a:ext cx="39322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е пришёл потому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н не пришёл оттого что заболе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т того берега отчалила лод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56320" y="1499760"/>
            <a:ext cx="3930480" cy="43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 тому болоту пройти нельз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 кто их разберет, что они крич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много отдохн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ты, союз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месте – иг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 люб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детво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, предлог и падежная фор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го местоим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вкусный пл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американского раст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– на дере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ой слог – сою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я мате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костюм гожу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айти союзы, указать их разряд,  расставить знаки препина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цветает черёмуха зато расцвела бузина и под нею земляника. 2. Марьяна улыбалась редко но её улыбка всегда поражала. 3.В деревню мы собирались затем чтобы отдохнуть собрать ягод  и грибов позагорать и покупаться.4.Лошадь не могла сдвинуть воз потому что заднее колесо соскочило. 5.Нет ничего в мире что могло бы прикрыть Днепр.6.Я склонился к реке но и там тоже колыхались и дрожали звёз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1499760"/>
            <a:ext cx="8183520" cy="3218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ворческая раб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-миниатюра «Компьютер в моей жизни» с использованием сочинительных и подчинительных союз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03280" y="2071440"/>
            <a:ext cx="8183520" cy="264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– неизменяемая часть речи, которая не является членом предложения, связывает однородные члены, части сложного предложения и самостоятельные  предложения целого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пиграф к урок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2214720"/>
            <a:ext cx="8183520" cy="250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Ломоносов так определял роль союзов: «…Союзы не что иное суть, как средства, которыми идеи соединяютс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минк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тест с взаимопроверкой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4080" y="1428840"/>
            <a:ext cx="3932280" cy="4643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В каждом столбике укажи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 же;      г) и та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так что;   д) так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что же;    е) так ж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В каждом ряду выдели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сочинитель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акже, так как, чт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если, то…то, буд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едва, потому ч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56320" y="1499760"/>
            <a:ext cx="3930480" cy="44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ричинный сою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, словно, потому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в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, пока, точн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изъяснитель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ро, что, оттого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1642680"/>
            <a:ext cx="818352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асти какого предложения связаны сочинительным союз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Что легко достается, то дёшево цен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В комнате было тихо, во всем доме тоже не было зву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Необходимо выйти рано, чтобы вовремя достичь перев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Учитель похвалил ученика за то, что он хорошо подготовился к зачё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должение тес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500120"/>
            <a:ext cx="757224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иши номера, где необходимо поставить запя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Мы очень поздно вышли из дома(1) вследствие чего(2)не успели к открытию спартак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Слышится(1)то шёпот(2)то осторожный шел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Отряд остановился(1)так(2)как впереди была отвесная ск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Для того(1)чтобы добраться до озера(2) потребовалось немало врем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б, 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тоже, то..то, 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тому что, пока, ч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а)-1; б)-2; в)-1; г)-1; д)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по шкал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нет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одна ошиб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две ошиб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2» - более двух оши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интаксическая пяти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50012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шите, вставляя пропущенные буквы. Составьте схему второго и третьего  предложений, укажите роль сою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_л_чайшее б_га_ство народа – его язык! 2.Тыс_ч_летиями накапл_ваю_ся и вечно живут в слов_ (не)сметные сокров_ща ч_л_веч_ской мысли и опыта.  3.Прав был В.Г.Белинский, утверждая, что «язык живёт вместе с жизнью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35712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помним: Запятая между однородными членам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4080" y="1213920"/>
            <a:ext cx="3932280" cy="471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, О,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(но, зато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,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 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1714680"/>
            <a:ext cx="3521160" cy="441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стойчивых выражения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т перечис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ставьте пропущенные буквы и знаки препи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ишите, вставляя пропущенные буквы, найдите союзы, определите их групп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_й(час) и дома и на работе к_мп_ют_ры ст_новя_ся (не)зам_нимыми п_мощ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колько разных свед_ний хр_нят к_мп_ют_ры в св_ей пам_ти! Они вс_гда к вашим услугам и в любой м_мент мгн_венно дадут нужную спра_ку. Как уч_ному так и врачу инж_неру и учит_лю  п_сат_лю и к_мп_зитору  к_нструктору и агр_ному – всем может помоч_ к_мп_ют_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42:20Z</dcterms:created>
  <dc:creator>Admin</dc:creator>
  <dc:description/>
  <dc:language>en-US</dc:language>
  <cp:lastModifiedBy>Windows 7</cp:lastModifiedBy>
  <dcterms:modified xsi:type="dcterms:W3CDTF">2013-05-07T02:13:00Z</dcterms:modified>
  <cp:revision>107</cp:revision>
  <dc:subject/>
  <dc:title>Союзы</dc:title>
</cp:coreProperties>
</file>